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9F63-3B2A-4BB4-AC56-F8263A55F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F476-4B2C-4751-8A66-D2BE7794C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6180-F6E9-4B07-B22C-491CEDB5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6AD-977C-41BD-9176-4E998FFC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A7F-2802-423E-86CA-88E20EF0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1A2-901E-43E8-BEAF-7EE93437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F02-E53D-4493-A5F1-F5F96341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3F9-DA39-4859-9CD7-ABA7BFDD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2AD-A754-44DC-9B9D-12CE3778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D88-9646-4659-874A-E5920D54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2A6-3CB0-473D-8978-B2F50D1A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7DDF-A97B-4461-92E1-6B2CCD88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C1E-29C8-4355-9651-B0BA12C0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021-DEAF-4C12-A8DD-DCD0077C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3D06-E29B-48D4-BB78-FF33718B4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ran Om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oran O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oran Omar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oran Oma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oran Om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8006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2971800" y="3886200"/>
            <a:ext cx="35812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emos una fiesta quieres veni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guesta: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2743200" y="3200400"/>
            <a:ext cx="3809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dam Saleh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ermosa noche buena !!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¿quieres comer mañan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4572000"/>
            <a:ext cx="40384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espertarse     Despertarse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666880" y="5181480"/>
            <a:ext cx="449604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ara Yousef 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buenos días nora ?…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5943600"/>
            <a:ext cx="419112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152280" y="3581280"/>
            <a:ext cx="14479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i nombre es Noran Omar. Yo vivo en Astoria. Tengo cotorce años.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tengo 2 hermanas. Yo soy de Egipto y Morroc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2133720" cy="1981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23623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2362320" y="4495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143000" y="5029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0" y="5638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ysha tur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09480" y="5715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iovanna Con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12193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 Youse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17524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97" name="TextBox 11"/>
          <p:cNvSpPr/>
          <p:nvPr/>
        </p:nvSpPr>
        <p:spPr>
          <a:xfrm>
            <a:off x="182880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hadijaa Zulfiqu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6"/>
          <a:stretch/>
        </p:blipFill>
        <p:spPr>
          <a:xfrm>
            <a:off x="2362320" y="243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7"/>
          <a:stretch/>
        </p:blipFill>
        <p:spPr>
          <a:xfrm>
            <a:off x="23623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8"/>
          <a:stretch/>
        </p:blipFill>
        <p:spPr>
          <a:xfrm>
            <a:off x="0" y="5029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9"/>
          <a:stretch/>
        </p:blipFill>
        <p:spPr>
          <a:xfrm>
            <a:off x="609480" y="5029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10"/>
          <a:stretch/>
        </p:blipFill>
        <p:spPr>
          <a:xfrm>
            <a:off x="2438280" y="5257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/>
          <p:cNvPicPr/>
          <p:nvPr/>
        </p:nvPicPr>
        <p:blipFill>
          <a:blip r:embed="rId11"/>
          <a:stretch/>
        </p:blipFill>
        <p:spPr>
          <a:xfrm>
            <a:off x="-1260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0" y="6653160"/>
            <a:ext cx="8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m Sale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NYCDOE</cp:lastModifiedBy>
  <dcterms:modified xsi:type="dcterms:W3CDTF">2012-12-06T02:06:56Z</dcterms:modified>
  <cp:revision>105</cp:revision>
  <dc:subject/>
  <dc:title>Profile</dc:title>
</cp:coreProperties>
</file>